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2EB-72F8-4D4F-8B92-B1A56256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CFA-A155-475C-BE78-A528063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23F-6C44-413D-B11A-3C05BD5C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F81-2AAC-4D78-9784-135B93E5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3A9C-8D23-42DF-97D9-B77DBAC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4D33-313C-41F8-B099-A232F5E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BAD-F13C-48E8-92BC-0AADEC2D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6F96-8F91-44A6-96B4-8BE9769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874-8C69-40AA-8109-98CD370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A87-3D84-4DA0-8BB8-5BDBE78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F70A-72AE-459F-AF02-75B7B40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C46-F366-4FBB-97D8-76488D85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17A6-6D37-4E8D-9E04-2EB6CCB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AC32-289C-4005-8DFA-06EC369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E540-3E04-4E5E-8267-E0D7710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6D7D-B35F-4043-BFA3-DECD5EB0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C695-2D22-48F8-BEE4-DD9C048E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80B-BA1A-42C8-B6E2-7DF3D20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600-2532-44F1-A2E5-FA70DEA8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41E-CDD4-4F56-84F0-35A508F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EB9-8F21-475A-AAE3-A6F55D00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4DF-3DD1-4AF4-9A22-FA42D29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853-EDE7-4F9B-9FA7-0ED0FB1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817-56F1-4078-89D6-6353897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52F7-221F-4254-A65C-3427039C0AF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1523-BE87-4EE9-9F4C-275D2E359F7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nt Conditioning: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hedules and Theor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f Reinforce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Ratio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iable ratio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ying, unpredictable number of respons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igh and steady rate of respons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ittle or no post-reinforcer paus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Hunting, fishing, golfing, shooting hoops, and telemarketing are examples of behaviors on this type of schedu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Ratio:  V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Ratio:  VR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Ratio is abbreviated “VR” and a number showing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n average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f how many responses between 1 and 100 must be made to get the reinforcer is added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. VR 50 (an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of 50 responses needed to get a reinforcer – could the the next try, or it could take 72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ambling is the classic example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Interval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 interval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the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rst response after 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, predictable period of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lancing at your watch during class provides an exampl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 mailman delivering your mail at a specific time every da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Interval: F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xed Interval is abbreviated “FI” and a number showing how much time must pass before the reinforcer is available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 30-min (reinforcement is available for the first response after 30 minutes have passed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.  Looking down the tracks for the train if it comes every 30 minut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Interval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iable interval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the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rst response after 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ying, unpredictable period of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 moderate, steady rate of response with little or no post-reinforcement pause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ooking down the street for the bus if you are waiting and have no idea how often it comes provides an exampl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Interval: V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Interval is abbreviated “VI” and a number showing the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verage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ime interval that must pass before the reinforcer is available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VI 30-min (reinforcement is available for the first response after an average of 30 minutes has passed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x.  Hilary’s boyfriend, Michael, gets out of school and turns on his phone some time between 3:00 and 3:30 – the “reward” of his answering his phone puts her calling behavior on a VI schedule, so she calls every few minutes until he answ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ow that we have discussed 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punishment and reinforcement. . .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t is time to discuss just HOW reinforcements can and should be deliver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there are other things to consider than just WHAT the reinforcer should be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ink about this!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you were going to reinforce your puppy for going to the bathroom outside, how would you do it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uld you give him a Milk Bone every time?  Some of the time?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uld you keep doing it the same way or would you change your method as you go along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schedule of reinforcemen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chedule of reinforcement is the response requirement that must be met in order to obtain reinforcement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 other words, it is what you have to do to get the goodies!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inuous vs. Partial Reinforce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continuous reinforcement schedule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one in which each specified response is reinforc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art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partial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reinforcement schedule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is one in which only some responses are reinforc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artial Reinforcement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you want to reinforce based on a certain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number of responses occurr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(for example, doing a certain number of math problems correctly), you can use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ratio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schedu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you want to reinforce </a:t>
            </a:r>
            <a:r>
              <a:rPr b="1" i="1" lang="en-US" sz="2800" spc="-1" strike="noStrike">
                <a:solidFill>
                  <a:srgbClr val="8383ad"/>
                </a:solidFill>
                <a:latin typeface="Arial"/>
              </a:rPr>
              <a:t>the first response after a certain amount of time has pass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(for example when a teacher gives a midterm test), you can use an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interval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schedu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ur Types of Partial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Ratio Schedu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Fixed Ratio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Variable Ratio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Interval Schedu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Fixed Interv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Variable Interv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Ratio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 ratio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, predictable number of respons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igh rate of respons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hort pause following each reinforcer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ding a chapter then taking a break is an exam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 good strategy for “getting started” is to start with an easy tas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Ratio:  FR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xed Ratio is abbreviated “FR” and a number showing how many responses must be made to get the reinforcer is added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. FR 5 (5 responses needed to get a reinforce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28:35Z</dcterms:created>
  <dc:creator>dmccarty</dc:creator>
  <dc:description/>
  <dc:language>en-US</dc:language>
  <cp:lastModifiedBy>hberndt</cp:lastModifiedBy>
  <dcterms:modified xsi:type="dcterms:W3CDTF">2009-03-10T14:27:48Z</dcterms:modified>
  <cp:revision>7</cp:revision>
  <dc:subject/>
  <dc:title>Operant Conditioning:</dc:title>
</cp:coreProperties>
</file>